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2DBB-1C1A-473D-8600-64CBC0AC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17C-A129-46C6-A3E2-15F2D69DEF9E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15A-228B-423F-92B6-229CAAA8E5EB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C14-30E5-418C-B797-10BF26957A4C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7248-11DB-48CF-A829-4B792550C1B6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E51-E98E-41F1-AEA4-C6909018C2F8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21F-F191-4ADA-912C-B2B444F9FB6F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2B6-196B-4FDD-AFD7-0E8C7A5C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E65-26B8-4A5A-A8DA-954D775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F8A-650B-4EAB-AC8B-CCB0A4A3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3864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15160" y="160020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3864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15160" y="3964320"/>
            <a:ext cx="245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9C9-CCC4-43C9-A030-DF398120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832-FACA-4549-8A11-EBA995D9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BF0-A3B7-48EB-9E69-EC777FD6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2F4-ADD1-42BE-A224-D4E6490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230-9737-4991-B692-7BE4D79A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D90-68B5-4734-8DAC-AA6B104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ED8-9722-4059-B1E5-035C246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6320" y="396432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58D-A890-449D-88D1-14EA14A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371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6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30E-7EC8-41F5-A3BF-A2F5BD0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2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Group 111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AutoShape 56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" name="AutoShape 70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162080 w 4191120"/>
                  <a:gd name="textAreaRight" fmla="*/ 3029040 w 419112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" name="AutoShape 71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112840 w 7619760"/>
                  <a:gd name="textAreaRight" fmla="*/ 5507280 w 7619760"/>
                  <a:gd name="textAreaTop" fmla="*/ 42840 h 152280"/>
                  <a:gd name="textAreaBottom" fmla="*/ 1094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" name="AutoShape 72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113200 w 7620120"/>
                  <a:gd name="textAreaRight" fmla="*/ 5507280 w 762012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" name="AutoShape 74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141560 w 4114800"/>
                  <a:gd name="textAreaRight" fmla="*/ 2973240 w 4114800"/>
                  <a:gd name="textAreaTop" fmla="*/ 42840 h 152640"/>
                  <a:gd name="textAreaBottom" fmla="*/ 10980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377" y="21600"/>
                    </a:lnTo>
                    <a:lnTo>
                      <a:pt x="13223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3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Oval 57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27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" name="Oval 79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4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Oval 80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" name="Oval 81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05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Oval 82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5" name="Oval 83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06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Oval 84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8" name="Oval 85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954-6AC1-41CB-BB4C-56A5AEFD3173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WELCOME TO AMERICAN STUDIES!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 Period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rters 1 and 3 – Progress grad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Quarters 2 and 4 – Grades of Reco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 transcrip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unt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ligibility / Interventions – Pulled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ursd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Do We Do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t of read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vel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n-fiction ite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t of wri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ssay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agraph respons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Els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blic Speak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rt and long speech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romptu and prepa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olo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l 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l produ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Life Lesson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ing an opinion on an iss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evidence to defend said posi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aking ris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elf-Advocac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take responsibility for choic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practice time manag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experience challen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speak for themsel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You Can Keep Up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ccess Infinite Campus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rad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essa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eck the class wiki –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k your stud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icture 2.png"/>
          <p:cNvPicPr/>
          <p:nvPr/>
        </p:nvPicPr>
        <p:blipFill>
          <a:blip r:embed="rId1"/>
          <a:stretch/>
        </p:blipFill>
        <p:spPr>
          <a:xfrm>
            <a:off x="3276720" y="228600"/>
            <a:ext cx="4741920" cy="6454800"/>
          </a:xfrm>
          <a:prstGeom prst="rect">
            <a:avLst/>
          </a:prstGeom>
          <a:ln w="9360">
            <a:solidFill>
              <a:srgbClr val="002a82"/>
            </a:solidFill>
            <a:miter/>
          </a:ln>
        </p:spPr>
      </p:pic>
      <p:sp>
        <p:nvSpPr>
          <p:cNvPr id="112" name="TextBox 4"/>
          <p:cNvSpPr/>
          <p:nvPr/>
        </p:nvSpPr>
        <p:spPr>
          <a:xfrm>
            <a:off x="990720" y="60948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ate of Clas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990720" y="137160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minde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990720" y="2438280"/>
            <a:ext cx="1981080" cy="64260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andouts from Da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990720" y="411480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ssigned Work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990720" y="5410080"/>
            <a:ext cx="1981080" cy="36828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ecture Materi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117" name="Straight Arrow Connector 10"/>
          <p:cNvCxnSpPr/>
          <p:nvPr/>
        </p:nvCxnSpPr>
        <p:spPr>
          <a:xfrm flipV="1">
            <a:off x="2666520" y="380520"/>
            <a:ext cx="68652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/>
          <p:nvPr/>
        </p:nvCxnSpPr>
        <p:spPr>
          <a:xfrm flipV="1">
            <a:off x="2743200" y="913680"/>
            <a:ext cx="991440" cy="686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19" name="Straight Arrow Connector 14"/>
          <p:cNvCxnSpPr/>
          <p:nvPr/>
        </p:nvCxnSpPr>
        <p:spPr>
          <a:xfrm>
            <a:off x="2743200" y="1600200"/>
            <a:ext cx="99144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0" name="Straight Arrow Connector 16"/>
          <p:cNvCxnSpPr/>
          <p:nvPr/>
        </p:nvCxnSpPr>
        <p:spPr>
          <a:xfrm>
            <a:off x="2742840" y="2819520"/>
            <a:ext cx="1220040" cy="216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1" name="Straight Arrow Connector 18"/>
          <p:cNvCxnSpPr/>
          <p:nvPr/>
        </p:nvCxnSpPr>
        <p:spPr>
          <a:xfrm>
            <a:off x="2742120" y="2819520"/>
            <a:ext cx="1143720" cy="13723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2" name="Straight Arrow Connector 20"/>
          <p:cNvCxnSpPr/>
          <p:nvPr/>
        </p:nvCxnSpPr>
        <p:spPr>
          <a:xfrm>
            <a:off x="2819160" y="4343400"/>
            <a:ext cx="991080" cy="9151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123" name="Straight Arrow Connector 22"/>
          <p:cNvCxnSpPr/>
          <p:nvPr/>
        </p:nvCxnSpPr>
        <p:spPr>
          <a:xfrm>
            <a:off x="2819160" y="5562360"/>
            <a:ext cx="991080" cy="686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Observations Over 15 Year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ents struggle with work load and expectations at firs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udents DO figure it out. Give them tim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nd their currency (video games, sports, phone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students can be believed.  Some cannot. We are competent individual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rading papers takes time…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00 students at 15 minutes each = 25 hou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lanning time we receive each week = 6 hou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cludes planning, prep, hall duty!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municatio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mail is be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hone is less good (never at desks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act anyti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ll push for student involvement in proc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o are These Guy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rles Vavra – Histo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ris Warner – English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cademic Transition Nigh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 parents invited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Legacy High School Auditoriu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September 8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f0505"/>
                </a:solidFill>
                <a:latin typeface="Arial"/>
              </a:rPr>
              <a:t>6 – 8 p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harles Vavr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hris Warne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bout the Clas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ts of discus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istorical / contemporary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oversial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defines controversial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very unit probably has 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ometh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uppli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p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encils / pe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ganizational syste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ash drive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1 GB or bigg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uter / internet acces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ext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The Americans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To Kill a Mockingbird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Of Mice and Me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Ragtim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Johnny Got His Gun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</a:rPr>
              <a:t>If I Die in a Combat Zone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" name="Chart 5" descr=""/>
          <p:cNvPicPr/>
          <p:nvPr/>
        </p:nvPicPr>
        <p:blipFill>
          <a:blip r:embed="rId1"/>
          <a:stretch/>
        </p:blipFill>
        <p:spPr>
          <a:xfrm>
            <a:off x="907920" y="1517760"/>
            <a:ext cx="7480440" cy="458460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51460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5%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37339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5%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rading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5% - Assessment 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de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5% - Shared (History and English)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de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ig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99"/>
                </a:solidFill>
                <a:latin typeface="Arial"/>
              </a:rPr>
              <a:t>30% - Formative (homework, etc.)</a:t>
            </a:r>
            <a:endParaRPr b="0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mall point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jects and Assignment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Curved Down Arrow 5"/>
          <p:cNvSpPr/>
          <p:nvPr/>
        </p:nvSpPr>
        <p:spPr>
          <a:xfrm>
            <a:off x="685800" y="2209680"/>
            <a:ext cx="8077320" cy="2819520"/>
          </a:xfrm>
          <a:custGeom>
            <a:avLst/>
            <a:gdLst>
              <a:gd name="textAreaLeft" fmla="*/ 1862280 w 8077320"/>
              <a:gd name="textAreaRight" fmla="*/ 5927760 w 8077320"/>
              <a:gd name="textAreaTop" fmla="*/ 377640 h 2819520"/>
              <a:gd name="textAreaBottom" fmla="*/ 2441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2" hR="21600" stAng="10800000" swAng="5400000"/>
                <a:lnTo>
                  <a:pt x="10871" y="0"/>
                </a:lnTo>
                <a:arcTo wR="9962" hR="21600" stAng="-5400000" swAng="3645424"/>
                <a:lnTo>
                  <a:pt x="21284" y="16200"/>
                </a:lnTo>
                <a:lnTo>
                  <a:pt x="20378" y="21600"/>
                </a:lnTo>
                <a:lnTo>
                  <a:pt x="18839" y="16200"/>
                </a:lnTo>
                <a:lnTo>
                  <a:pt x="19607" y="16200"/>
                </a:lnTo>
                <a:arcTo wR="9962" hR="21600" stAng="-1754576" swAng="-3573023"/>
                <a:lnTo>
                  <a:pt x="10416" y="22"/>
                </a:lnTo>
                <a:arcTo wR="9962" hR="21600" stAng="-5472401" swAng="-5327599"/>
                <a:close/>
              </a:path>
              <a:path fill="darkenLess" w="21600" h="21600">
                <a:moveTo>
                  <a:pt x="0" y="21600"/>
                </a:moveTo>
                <a:arcTo wR="9962" hR="21600" stAng="10800000" swAng="5400000"/>
                <a:lnTo>
                  <a:pt x="9962" y="0"/>
                </a:lnTo>
                <a:arcTo wR="9962" hR="21600" stAng="-5400000" swAng="72401"/>
                <a:lnTo>
                  <a:pt x="10416" y="22"/>
                </a:lnTo>
                <a:arcTo wR="9962" hR="21600" stAng="-5472401" swAng="-5327599"/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d70000"/>
              </a:gs>
            </a:gsLst>
            <a:lin ang="5400000"/>
          </a:gradFill>
          <a:ln w="9360">
            <a:solidFill>
              <a:srgbClr val="fd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Curved Down Arrow 6"/>
          <p:cNvSpPr/>
          <p:nvPr/>
        </p:nvSpPr>
        <p:spPr>
          <a:xfrm>
            <a:off x="129528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ff8000"/>
          </a:solidFill>
          <a:ln w="9360">
            <a:solidFill>
              <a:srgbClr val="ff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Curved Down Arrow 7"/>
          <p:cNvSpPr/>
          <p:nvPr/>
        </p:nvSpPr>
        <p:spPr>
          <a:xfrm>
            <a:off x="594360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Curved Down Arrow 8"/>
          <p:cNvSpPr/>
          <p:nvPr/>
        </p:nvSpPr>
        <p:spPr>
          <a:xfrm>
            <a:off x="3809880" y="4114800"/>
            <a:ext cx="2057400" cy="990720"/>
          </a:xfrm>
          <a:custGeom>
            <a:avLst/>
            <a:gdLst>
              <a:gd name="textAreaLeft" fmla="*/ 421200 w 2057400"/>
              <a:gd name="textAreaRight" fmla="*/ 1512000 w 205740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nfinite Campus Cod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Picture 4" descr="Picture 1.png"/>
          <p:cNvPicPr/>
          <p:nvPr/>
        </p:nvPicPr>
        <p:blipFill>
          <a:blip r:embed="rId1"/>
          <a:stretch/>
        </p:blipFill>
        <p:spPr>
          <a:xfrm>
            <a:off x="3124080" y="1600200"/>
            <a:ext cx="2759040" cy="492120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380880" y="281952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ssignment is Miss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ot counting for or against grade, yet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2" name="Straight Arrow Connector 7"/>
          <p:cNvCxnSpPr/>
          <p:nvPr/>
        </p:nvCxnSpPr>
        <p:spPr>
          <a:xfrm>
            <a:off x="2514240" y="3962160"/>
            <a:ext cx="1143720" cy="61020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sp>
        <p:nvSpPr>
          <p:cNvPr id="93" name="TextBox 8"/>
          <p:cNvSpPr/>
          <p:nvPr/>
        </p:nvSpPr>
        <p:spPr>
          <a:xfrm>
            <a:off x="6324480" y="281952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ssignment is Miss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s counting against grade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4" name="Straight Arrow Connector 10"/>
          <p:cNvCxnSpPr/>
          <p:nvPr/>
        </p:nvCxnSpPr>
        <p:spPr>
          <a:xfrm flipH="1" flipV="1">
            <a:off x="5790960" y="3580560"/>
            <a:ext cx="915120" cy="25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sp>
        <p:nvSpPr>
          <p:cNvPr id="95" name="TextBox 11"/>
          <p:cNvSpPr/>
          <p:nvPr/>
        </p:nvSpPr>
        <p:spPr>
          <a:xfrm>
            <a:off x="380880" y="457200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xemp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udent is not required to do this assignment. 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6324480" y="4572000"/>
            <a:ext cx="2286000" cy="1465560"/>
          </a:xfrm>
          <a:prstGeom prst="rect">
            <a:avLst/>
          </a:prstGeom>
          <a:noFill/>
          <a:ln w="93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wri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udent is to rewrite the assignment and resubmi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97" name="Straight Arrow Connector 14"/>
          <p:cNvCxnSpPr/>
          <p:nvPr/>
        </p:nvCxnSpPr>
        <p:spPr>
          <a:xfrm flipH="1">
            <a:off x="5181120" y="5029200"/>
            <a:ext cx="1372320" cy="45792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  <p:cxnSp>
        <p:nvCxnSpPr>
          <p:cNvPr id="98" name="Straight Arrow Connector 16"/>
          <p:cNvCxnSpPr/>
          <p:nvPr/>
        </p:nvCxnSpPr>
        <p:spPr>
          <a:xfrm>
            <a:off x="2437920" y="5257800"/>
            <a:ext cx="839160" cy="2160"/>
          </a:xfrm>
          <a:prstGeom prst="straightConnector1">
            <a:avLst/>
          </a:prstGeom>
          <a:ln w="25560">
            <a:solidFill>
              <a:srgbClr val="fc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38:53Z</dcterms:created>
  <dc:creator>Charles Vávra</dc:creator>
  <dc:description/>
  <dc:language>en-US</dc:language>
  <cp:lastModifiedBy>.</cp:lastModifiedBy>
  <cp:lastPrinted>1904-01-01T00:00:00Z</cp:lastPrinted>
  <dcterms:modified xsi:type="dcterms:W3CDTF">2011-08-17T16:16:31Z</dcterms:modified>
  <cp:revision>70</cp:revision>
  <dc:subject/>
  <dc:title>American Studies</dc:title>
</cp:coreProperties>
</file>